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622-AB6F-4A20-913F-7BE40721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250-6B35-4C30-8CE3-2A9359B0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925-3DD4-48E8-B42D-E631A4AA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435-621E-4EC4-AC5C-D326915A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751-33EB-4980-A908-F2D3BDD6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286-9256-496C-88B2-9B87B132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9FB-2252-475B-B3EA-7AAD0163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CEC-ED79-445E-AD62-4034053F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162-37FA-49B9-AD9A-C2EDBD52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3B6-63AB-4661-A182-B934ECFE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C3D-631D-41E9-A919-77CADC04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370-CE12-4372-A463-0F138C78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09CE-E1DE-465A-A470-BA0A4A9BC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ig part of the Realism was founded in stories of war, especially the Civil W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ngs They Carrie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876920" y="2895120"/>
            <a:ext cx="2590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truth” of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0767902890"/>
          <p:cNvPicPr/>
          <p:nvPr/>
        </p:nvPicPr>
        <p:blipFill>
          <a:blip r:embed="rId1"/>
          <a:stretch/>
        </p:blipFill>
        <p:spPr>
          <a:xfrm>
            <a:off x="533520" y="1752480"/>
            <a:ext cx="3133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M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id-April, it was their mission to search out and destroy the elaborate tunnel complexes in the Than Ke area south of Chun Lai.  To blow the tunnels, they carried one-pound blocks of pentritehigh explosives, four blocks to a man, 68 pounds in 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Things They Carr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age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anything suspicious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Image:VietnamCuChiTunnelstrapclosed.jpg"/>
          <p:cNvPicPr/>
          <p:nvPr/>
        </p:nvPicPr>
        <p:blipFill>
          <a:blip r:embed="rId1"/>
          <a:stretch/>
        </p:blipFill>
        <p:spPr>
          <a:xfrm>
            <a:off x="1219320" y="1600200"/>
            <a:ext cx="6553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age:VietnamCuChiTunnelstrapopen.jpg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8:13:45Z</dcterms:created>
  <dc:creator>NPSD</dc:creator>
  <dc:description/>
  <dc:language>en-US</dc:language>
  <cp:lastModifiedBy>Angie McCall</cp:lastModifiedBy>
  <dcterms:modified xsi:type="dcterms:W3CDTF">2012-02-16T18:18:05Z</dcterms:modified>
  <cp:revision>6</cp:revision>
  <dc:subject/>
  <dc:title>“The Things They Carried”</dc:title>
</cp:coreProperties>
</file>